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883-DFA4-4A0E-81E8-58544BDF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813-5AE5-47E4-8A76-79870F68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CBC-53A4-491E-95A3-A5169572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5E6-6F98-4591-86B0-F0BC37F9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6AD-0187-49D1-8F35-C663AEC6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848-2D69-4AA5-AEAC-AF2B4111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A5A-0163-4D16-B157-C69C5263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003-B3A4-45C9-9116-8B2907BF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5E3-000B-422D-9E21-F059E286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441-5C4E-4A80-98BA-9B430BC0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86A-AB0E-409D-B8DD-0650BD67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D1D-E24A-4B39-9E59-E5EA295C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469B-17AA-49BF-AD2C-1A22B1639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5:42:08Z</dcterms:created>
  <dc:creator>Grupo Editorial</dc:creator>
  <dc:description/>
  <dc:language>en-US</dc:language>
  <cp:lastModifiedBy>Grupo Editorial</cp:lastModifiedBy>
  <dcterms:modified xsi:type="dcterms:W3CDTF">2001-11-20T15:45:27Z</dcterms:modified>
  <cp:revision>1</cp:revision>
  <dc:subject/>
  <dc:title>Sin título de diapositiva</dc:title>
</cp:coreProperties>
</file>